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5AF48-11C8-4DAB-A4F6-D5FA0CC58C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8AD3D-6226-4D90-9868-2C0E9C73009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F880F-C70A-434A-A27B-B1D1F17AF5D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217DF-354A-47D6-B6B8-012A9827A0D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85B47-DC3D-4C5C-9643-3892B7E3E1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7860C-0E95-4421-82F6-189C4DC301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C2B61-6AA2-4973-862F-5F32E950DB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44FF-79C6-4949-B648-B7122E2B1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9C14-B1E7-4193-B886-16FD3270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E626-7883-4BEB-B08A-376D807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4CE6-C1F1-40D3-952A-DCBBE24CFC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2EFD-17D3-450C-8696-6F1C1E3C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5B7E-A353-455F-B6B8-D954280B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1FEF-1010-45D4-BF05-05D9DDAB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4D8C-E162-448C-A4CA-C0DE680C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F8A0-02DD-4C7F-B4D5-44B5AEB1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D2D6-AD4E-4FDD-B88D-BD853452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44AC-908F-4289-85FD-5CC23C21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A40D-95F0-4B78-9D9F-9109F798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0900B3-8493-42BE-816B-D476C7E35A90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structur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ITOSFERA Y PLACAS LITOSFÉR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itosfera y capas litosfér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900000" y="3492360"/>
            <a:ext cx="5399280" cy="2880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934920" y="1274760"/>
            <a:ext cx="7524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itosfera está formada por la corteza y la parte superior del manto, es decir, toda la zona formada por rocas rígi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grosor es muy variable, desde unos 70 km en los océanos hasta 200 km en contin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istinguen, por tanto ,la litosfera continental y la litosfera oceán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82692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Qué es la lito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875640" y="4392720"/>
            <a:ext cx="107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rte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6932520" y="476892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nto ríg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7559640" y="4392720"/>
            <a:ext cx="360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V="1">
            <a:off x="7920000" y="4390560"/>
            <a:ext cx="1800" cy="90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7559640" y="5292720"/>
            <a:ext cx="360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920000" y="4680000"/>
            <a:ext cx="107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itosf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4140360" y="2924280"/>
            <a:ext cx="126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itosfera contin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1116000" y="299736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itosfera oceá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22 Conector recto"/>
          <p:cNvSpPr/>
          <p:nvPr/>
        </p:nvSpPr>
        <p:spPr>
          <a:xfrm>
            <a:off x="6012000" y="5013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23 Conector recto"/>
          <p:cNvSpPr/>
          <p:nvPr/>
        </p:nvSpPr>
        <p:spPr>
          <a:xfrm>
            <a:off x="5508720" y="458136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25 Conector recto"/>
          <p:cNvSpPr/>
          <p:nvPr/>
        </p:nvSpPr>
        <p:spPr>
          <a:xfrm flipV="1">
            <a:off x="5076720" y="34290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28 Conector recto"/>
          <p:cNvSpPr/>
          <p:nvPr/>
        </p:nvSpPr>
        <p:spPr>
          <a:xfrm flipV="1">
            <a:off x="1979640" y="3573000"/>
            <a:ext cx="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984240" y="90360"/>
            <a:ext cx="77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itosfera y capas litosfér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971640" y="1268280"/>
            <a:ext cx="7777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itosfera no es continua, sino que se encuentra fragmentada en una serie de trozos que se denominan placas litosféricas o placas tectón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ordes de estas placas se identifican fácilmente porque coinciden con relieves geográficos tales como fosas, grandes cordilleras, dorsales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lacas litosfér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Agrupar 1"/>
          <p:cNvGrpSpPr/>
          <p:nvPr/>
        </p:nvGrpSpPr>
        <p:grpSpPr>
          <a:xfrm>
            <a:off x="1476360" y="2679840"/>
            <a:ext cx="6551640" cy="3714480"/>
            <a:chOff x="1476360" y="2679840"/>
            <a:chExt cx="6551640" cy="3714480"/>
          </a:xfrm>
        </p:grpSpPr>
        <p:pic>
          <p:nvPicPr>
            <p:cNvPr id="90" name="Picture 8" descr=""/>
            <p:cNvPicPr/>
            <p:nvPr/>
          </p:nvPicPr>
          <p:blipFill>
            <a:blip r:embed="rId2"/>
            <a:stretch/>
          </p:blipFill>
          <p:spPr>
            <a:xfrm>
              <a:off x="1476720" y="2679840"/>
              <a:ext cx="619056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9"/>
            <p:cNvSpPr/>
            <p:nvPr/>
          </p:nvSpPr>
          <p:spPr>
            <a:xfrm>
              <a:off x="2196360" y="3285000"/>
              <a:ext cx="126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norteamerica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5146920" y="3511800"/>
              <a:ext cx="1260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euroasiátic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320000" y="4770360"/>
              <a:ext cx="1260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africa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12"/>
            <p:cNvSpPr/>
            <p:nvPr/>
          </p:nvSpPr>
          <p:spPr>
            <a:xfrm>
              <a:off x="3096000" y="4789440"/>
              <a:ext cx="126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sudamerica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13"/>
            <p:cNvSpPr/>
            <p:nvPr/>
          </p:nvSpPr>
          <p:spPr>
            <a:xfrm>
              <a:off x="4500720" y="5905440"/>
              <a:ext cx="1260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antártic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14"/>
            <p:cNvSpPr/>
            <p:nvPr/>
          </p:nvSpPr>
          <p:spPr>
            <a:xfrm>
              <a:off x="1656360" y="5040360"/>
              <a:ext cx="1079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del Pacíf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15"/>
            <p:cNvSpPr/>
            <p:nvPr/>
          </p:nvSpPr>
          <p:spPr>
            <a:xfrm>
              <a:off x="6948720" y="4530960"/>
              <a:ext cx="1079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del Pacíf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6"/>
            <p:cNvSpPr/>
            <p:nvPr/>
          </p:nvSpPr>
          <p:spPr>
            <a:xfrm>
              <a:off x="5435640" y="5184720"/>
              <a:ext cx="161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australiano-ind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17"/>
            <p:cNvSpPr/>
            <p:nvPr/>
          </p:nvSpPr>
          <p:spPr>
            <a:xfrm>
              <a:off x="1476360" y="4041720"/>
              <a:ext cx="90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Juan de Fuc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8"/>
            <p:cNvSpPr/>
            <p:nvPr/>
          </p:nvSpPr>
          <p:spPr>
            <a:xfrm flipH="1">
              <a:off x="1839600" y="3963960"/>
              <a:ext cx="304560" cy="144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19"/>
            <p:cNvSpPr/>
            <p:nvPr/>
          </p:nvSpPr>
          <p:spPr>
            <a:xfrm flipV="1">
              <a:off x="1841400" y="3962160"/>
              <a:ext cx="1440" cy="15372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0"/>
            <p:cNvSpPr/>
            <p:nvPr/>
          </p:nvSpPr>
          <p:spPr>
            <a:xfrm>
              <a:off x="1763640" y="4473720"/>
              <a:ext cx="1079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d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Co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1"/>
            <p:cNvSpPr/>
            <p:nvPr/>
          </p:nvSpPr>
          <p:spPr>
            <a:xfrm flipH="1">
              <a:off x="2352240" y="4650120"/>
              <a:ext cx="304560" cy="144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22"/>
            <p:cNvSpPr/>
            <p:nvPr/>
          </p:nvSpPr>
          <p:spPr>
            <a:xfrm>
              <a:off x="2484360" y="4941360"/>
              <a:ext cx="1079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d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Nazc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23"/>
            <p:cNvSpPr/>
            <p:nvPr/>
          </p:nvSpPr>
          <p:spPr>
            <a:xfrm>
              <a:off x="2406960" y="5681520"/>
              <a:ext cx="1014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de Scot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H="1">
              <a:off x="2991240" y="5880240"/>
              <a:ext cx="304560" cy="144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25"/>
            <p:cNvSpPr/>
            <p:nvPr/>
          </p:nvSpPr>
          <p:spPr>
            <a:xfrm>
              <a:off x="7020360" y="3861000"/>
              <a:ext cx="539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filipi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6"/>
            <p:cNvSpPr/>
            <p:nvPr/>
          </p:nvSpPr>
          <p:spPr>
            <a:xfrm flipH="1" flipV="1">
              <a:off x="6733080" y="4419360"/>
              <a:ext cx="577440" cy="1260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27"/>
            <p:cNvSpPr/>
            <p:nvPr/>
          </p:nvSpPr>
          <p:spPr>
            <a:xfrm flipV="1">
              <a:off x="7309080" y="4232160"/>
              <a:ext cx="1440" cy="199800"/>
            </a:xfrm>
            <a:prstGeom prst="line">
              <a:avLst/>
            </a:prstGeom>
            <a:ln w="18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5004360" y="4113360"/>
              <a:ext cx="7203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laca árab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9-01T09:15:55Z</dcterms:modified>
  <cp:revision>49</cp:revision>
  <dc:subject/>
  <dc:title>Diapositiva 1</dc:title>
</cp:coreProperties>
</file>